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F57C-2EAB-4FAD-B3F2-681691697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8BBA-94D4-49B6-9638-BEF73D8C9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EC1-E33F-428B-AD0A-41BDE3E7AE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BE4C-0474-4CD9-9592-A2BD565EFB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3D7-E071-46DB-9C67-25AB59D9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8BE3-6768-4475-A833-3846816B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E41-EDC4-4BFF-804F-1A0141B1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310-EF70-4557-8445-08821D0E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F4AD-396F-492A-9465-73C9F6EF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0321-76E4-44A8-89FF-A8A7FA4D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3F7-7C84-479B-905A-EA1F193E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D8B7-4206-4F22-AC6A-5AAA25DD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00BE-87AA-4EDA-8CE4-4C009B9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2C54-C16C-42CE-A8EE-0D48B685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850D-1E13-4B40-8059-B3D6AD2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3F6-CC72-400B-96BD-5A9A3A4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AF22-9C95-4EBF-B7B5-FB29998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36EB-769E-4091-80B8-2A408E2C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0ABD-9DC6-46A9-8F85-A8DEBF15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A74B-4AA7-4895-A64C-123E8185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6342-D100-48CC-9377-C9267387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C89EC9-E056-47C7-B792-078635EC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ABD04-EFB4-47E9-A680-48777D2F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72234-0FDC-4B29-8DC5-0439E6A0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C15A3-FFBF-4FD2-8A54-225094E8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74470-1B88-4210-85C0-BC55616B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65C-2C15-4008-B4B8-6065E1C4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A42C27-8E54-405D-9D24-900DAF60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22D91A-FC95-4331-8C36-C921DDBE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3239E-E779-41BA-94A4-00275D3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BA96C-202F-43E9-8450-C8C69D19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78468-E248-4575-8F81-03C5DDE2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449DF6-20B4-4342-A59E-45470B90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C39E2-2B1D-4A48-BB4D-35D12A92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71A991-7949-45A5-A90D-BF8BA0B0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D1753-8846-4766-8011-38842559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EE75D3-8C03-4A4B-B5E1-57EC5528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936-738C-4C8D-AD56-09916A3F8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AFDAE-7AFD-4CCA-85A6-C56CEA86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DF562C-A08E-4CC4-B00A-A02CA506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8BECF-D56A-4D74-B4AC-42A0B4EB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FF083-1C7B-47C6-86C5-CB0ED50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FD9D0F-1D41-4778-964B-A97AE1D1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D4A623-AFA6-4179-B607-4276C950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EF7576-6791-4B0F-8626-F8FE5DD8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A0FDF-3971-4337-8FB8-49271E7F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762196-5C47-4E3B-B31A-C28A5B2C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DAA18-93DF-4B3B-8094-569812AA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73C-0A67-40D8-8AC0-71C599EE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8E9FDF-7F05-41C3-8744-144A8F1F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2E314-17E9-4D84-8092-67F854D3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36924C-0833-4252-8092-3A09F5D2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D21F29-7B31-478B-A267-6D1D81E0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C600B-EA28-46BD-8090-E93E70B0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D1FACA-414D-44CC-9596-2ADC78A9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E24237-7E64-46C0-B5DE-4AC986DF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489B6-24BC-4E48-9F6A-147E21B3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EC6E76-2BC0-410C-90E3-FED5BE98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D2071-FA51-47AB-B150-F328B1A0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FB97-C234-4963-9A58-D15EF2E0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817A1-4C21-4786-BD2B-10A16A528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95F5-053D-4C02-8BB4-613CC417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F37B7-1728-4C97-A4D9-1045CEC8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066D3-DACF-4F1A-9820-38BE6504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FC28E-6E5A-4FBB-B5F9-6C18E5A2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6D4E5-18B0-46C0-8AD7-3B8A1A0F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3B81B-C1B3-47A8-B16E-1E2F4E78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7524B-BDCA-46C1-B7AA-44BF03AC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78E3A-E43B-4667-8FE6-DEFEC8E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1B876-D57F-42FF-AC02-68BF140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287-65D9-41AB-9B24-5CC943EE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9CF73-E7A1-4761-B43D-397776EC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6E8AB-1688-4044-9794-09D4AAEF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8AB5E-1898-4BB8-B56C-7EC1F11E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A208E8-1B56-4BB7-9883-A3229EA4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19604-22E2-4657-8833-CB5B3D4B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E4658-D192-43C8-B106-C896035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98398-82EE-41A6-A496-DAAC8ECD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07175E-6161-4FB1-ABD8-74552679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9FED7-68B3-4338-84CA-E1CFE05C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1D547-D85C-4269-8D8D-F12C798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E21-E6D7-42FC-861F-2419C8AE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079653-6AE8-4A98-9202-6C96E58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B294D-5A23-4612-B141-40FC2CCD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DEE13-894F-4A9E-8C7D-A1329301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D7857-7722-44D5-8BFB-DD5093BC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BD464A-C3D4-4A13-AA51-27B75BEB5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B4386-9216-4D8F-807C-060EBB83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50160-C1D2-4E5F-8C36-7457A7EA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E0658-76BF-4CB4-958C-69796DDD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5EE94-D513-44A1-AF3C-770176D9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A0187-5DBE-43A3-80F0-4E56195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273D-1248-4731-A53A-A14D53D8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4383-F7AF-4B16-BB9B-FC1503C3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4A71-8764-44AF-9BCF-3CB339D5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B0491-7210-4E22-AE8F-E395D3A0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80661-5D2F-42F9-A270-33185130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26837-6254-4A1B-99DB-14479532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A3DD7-DD46-4CA9-915D-FE45355B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91055-6F51-4019-B1FE-ADA442C2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B5FE-39DD-4D6F-AF44-0B546CC39E7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AC98-C482-4A89-B406-F45F9832528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F6A6-6241-477C-A89D-A716C4365442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B3AF-1E61-4F39-9304-0829171D350A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BA3E-E5AB-43D8-BA5C-A5FE96F34CA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7CE-3B28-4CAA-A01E-FAF5563CEAE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3B31-635C-45EE-B74E-C8F282EB20C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46F2-F59C-4E88-84CD-6EC835D8C3B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E3BD-B217-4574-B78F-9633552078E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129A-9454-49B5-9D16-B25912C8175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260C-AE03-40A0-BA0E-AF1F178980A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E059-2F72-4AAF-8B08-3602A3AFF8F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5DC-81E7-4596-B768-1E6C272A6AB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E60-F86C-440F-AE18-AE18CADB374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F65D-7224-4C82-96F0-26838D4845D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F934-E2B4-423E-8304-BE9C94F55E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6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6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240" y="1060560"/>
            <a:ext cx="8839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Top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cs</a:t>
            </a: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in </a:t>
            </a:r>
            <a:r>
              <a:rPr b="0" lang="en-US" sz="4000" spc="-1" strike="noStrike">
                <a:solidFill>
                  <a:srgbClr val="dd8047"/>
                </a:solidFill>
                <a:latin typeface="Tw Cen MT"/>
              </a:rPr>
              <a:t>Enterprise</a:t>
            </a:r>
            <a:r>
              <a:rPr b="0" lang="en-US" sz="4400" spc="-1" strike="noStrike">
                <a:solidFill>
                  <a:srgbClr val="dd8047"/>
                </a:solidFill>
                <a:latin typeface="Tw Cen MT"/>
              </a:rPr>
              <a:t> Architecture - 2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CC3D-5007-4346-9956-F748F2AC487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"/>
          <p:cNvSpPr/>
          <p:nvPr/>
        </p:nvSpPr>
        <p:spPr>
          <a:xfrm>
            <a:off x="304920" y="0"/>
            <a:ext cx="8458200" cy="83379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Windows DNA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ver the last several years, Microsoft has been ad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re Internet-aware features into its family of op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yste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t, building a complete Web application using class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DNA (Distributed iNternet Architecture) is al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very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me of this complexity is due to the simple fact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DNA requires the use of numerous technolog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languages (ASP, HTML, XML, JavaScript, VBScrip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(+), as well as a data access API such as ADO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problem is that many of these items are complete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nrelated from a syntactic point of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rther, more important, each language and/or technolog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s its own type system. An "int" in JavaScript is not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ame  as an "int“ in C, which is different from an "Integer"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V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5"/>
          <p:cNvSpPr/>
          <p:nvPr/>
        </p:nvSpPr>
        <p:spPr>
          <a:xfrm>
            <a:off x="6095880" y="634032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BF2B-03E6-4F00-B0D2-88F72E9F647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2"/>
          <p:cNvSpPr/>
          <p:nvPr/>
        </p:nvSpPr>
        <p:spPr>
          <a:xfrm>
            <a:off x="609480" y="640080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D0EA-5496-442B-8C77-E317F1BD480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304920" y="173160"/>
            <a:ext cx="8458200" cy="81550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.NET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Here is a quick rundown of some core featur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  provided courtesy of .N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Full interoperability with existing Win32 code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isting C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inaries can commingle with newer .NET binaries and 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ver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Complete and total language integration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  .NET  support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cross- languag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heritance, cross-language excep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ndling, and crosslanguage debugg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w Cen MT"/>
              </a:rPr>
              <a:t>A common runtime engine shared by all .NET –aware</a:t>
            </a:r>
            <a:br>
              <a:rPr sz="2400"/>
            </a:br>
            <a:r>
              <a:rPr b="0" lang="en-US" sz="2400" spc="-1" strike="noStrike">
                <a:solidFill>
                  <a:srgbClr val="0070c0"/>
                </a:solidFill>
                <a:latin typeface="Tw Cen MT"/>
              </a:rPr>
              <a:t>  languag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One aspect of this engine is a welldefined set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types that each .NET-aware language "understands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A base class library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at provides shelter from th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complexities of raw API calls, and offers a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istent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del used by all .NET- aware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ate Placeholder 5"/>
          <p:cNvSpPr/>
          <p:nvPr/>
        </p:nvSpPr>
        <p:spPr>
          <a:xfrm>
            <a:off x="6095880" y="634032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7A75-3667-460C-9756-A9AA5784B07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AE9-83F0-4C7F-B5DE-962B7F2CCA4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"/>
          <p:cNvSpPr/>
          <p:nvPr/>
        </p:nvSpPr>
        <p:spPr>
          <a:xfrm>
            <a:off x="304920" y="173160"/>
            <a:ext cx="8458200" cy="24256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70c0"/>
                </a:solidFill>
                <a:latin typeface="Tw Cen MT"/>
              </a:rPr>
              <a:t>A truly simplified deployment model.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Under .NET, there is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no need to register a binary unit into th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ystem registr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urthermore, the .NET runtime allows multiple version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same *.dll to exist in a single mach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DBBC-4408-47CD-81F6-1180DB01B7D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5EBD-DBD1-4C5F-81D0-F207F6A32BE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304920" y="173160"/>
            <a:ext cx="8458200" cy="6158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Introducing the Building Blocks of the .NET Platform (the CLR, CTS, and C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three key entities : the CLR, CTS, and  C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rom a programmer’s point of view, .NET can 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nderstood as a new runtime environment and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rehensive base class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runtime layer is properly referred to as the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omm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language runtime, or CL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primary role of th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R is to locate, load, and man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.NE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R also takes care of a number of low- level detai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ch as memory management and performing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hecks.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78DE-2CF2-4B2F-AAAB-30CE0E6E023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CF1-928D-4A07-A0CF-FF0881826BA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304920" y="173160"/>
            <a:ext cx="8458200" cy="63568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TS (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ommon Type System)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pecification fu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scribes  all possible data types and programm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structs supported by the run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TS also specifies how these entities can interact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ach other, and  how they are represented in the .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tadata form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LS (Common Language Specification)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fines a 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f rules that enables interoperability on the .NET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S is a subset of CTS and therefore the langua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pporting the CLS can use each other’s class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make use of a data type or programming constr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is outside of the bounds of the CLS, we canno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guarantee that every .NET programming language c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ract  with .NET code libra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E572-2AAF-48B6-BC61-413FC0EBC8B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EF5E-B723-4E5B-867B-9D747FD33BC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304920" y="173160"/>
            <a:ext cx="8458200" cy="67993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the Base Class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addition to the CLR and CTS/CLS specifications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.NET platform provides a base class library that is avail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 to all .NET programming langua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so provides support for a number of services requir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st real-world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ate Placeholder 7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DB56-1013-4026-9381-9E7F5690CB1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9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7924680" cy="27590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"/>
          <p:cNvPicPr/>
          <p:nvPr/>
        </p:nvPicPr>
        <p:blipFill>
          <a:blip r:embed="rId2"/>
          <a:stretch/>
        </p:blipFill>
        <p:spPr>
          <a:xfrm>
            <a:off x="1523880" y="5619600"/>
            <a:ext cx="6019920" cy="32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4036-C774-4208-BD7A-410380E1FE1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4920" y="173160"/>
            <a:ext cx="8458200" cy="80175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What C# Brings to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# language offers the following features (man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which are shared by other .NET-aware programm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languag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Tw Cen MT"/>
              </a:rPr>
              <a:t>No pointers require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! C# programs typically have no ne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 direct pointer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utomatic memory management through garb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llection. Thus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# does not support a delete keywo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mal syntactic constructs for enumerations, structur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class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++-like ability to overload operators for a cust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ype, without the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s of C# 2005, the ability to build generic types and gener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mbers using a syntax very similar to C++ templ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ll support for interface-based programm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D33-778A-4674-9418-F9E41D167F0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4"/>
          <p:cNvSpPr/>
          <p:nvPr/>
        </p:nvSpPr>
        <p:spPr>
          <a:xfrm>
            <a:off x="304920" y="173160"/>
            <a:ext cx="8458200" cy="4939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ull support for aspect-oriented programming (AO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echniques via attribu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ost important point about the C# is that it can on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duce code that can execute within the .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untime(managed c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binary unit that contains the managed code is  term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ssembly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de that cannot be directly hosted by the .NET  runtime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erm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unmanaged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008D-6694-4CB0-B2FE-36D9374D495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E8CE-F805-4B2A-806B-58AA52C8865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Callout 8"/>
          <p:cNvSpPr/>
          <p:nvPr/>
        </p:nvSpPr>
        <p:spPr>
          <a:xfrm>
            <a:off x="1828800" y="3962520"/>
            <a:ext cx="6705720" cy="2286000"/>
          </a:xfrm>
          <a:prstGeom prst="wedgeEllipseCallout">
            <a:avLst>
              <a:gd name="adj1" fmla="val 26287"/>
              <a:gd name="adj2" fmla="val -199935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Aspect-oriented programming (AOP) is a programming paradigm that increases modularity. This entails breaking down a program into distinct parts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ooter Placeholder 2"/>
          <p:cNvSpPr/>
          <p:nvPr/>
        </p:nvSpPr>
        <p:spPr>
          <a:xfrm>
            <a:off x="609480" y="6340320"/>
            <a:ext cx="5421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0" y="63244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BA39-F9A2-496C-85AC-EEF30DED344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Date Placeholder 4"/>
          <p:cNvSpPr/>
          <p:nvPr/>
        </p:nvSpPr>
        <p:spPr>
          <a:xfrm>
            <a:off x="6095880" y="6340320"/>
            <a:ext cx="2667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C04F-A2B2-4A0F-B55E-34C8680F1DF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5"/>
          <p:cNvSpPr/>
          <p:nvPr/>
        </p:nvSpPr>
        <p:spPr>
          <a:xfrm>
            <a:off x="304920" y="130320"/>
            <a:ext cx="8458200" cy="65095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An Overview of .NET Assembl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gardless of which .NET language you choose to progra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th, .NET binaries take the same file extension (*.dll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*.ex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NET binaries do not contain platform-specific instruction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ut rather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intermediate language (IL) and type metadata.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315200" cy="29383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"/>
          <p:cNvPicPr/>
          <p:nvPr/>
        </p:nvPicPr>
        <p:blipFill>
          <a:blip r:embed="rId2"/>
          <a:stretch/>
        </p:blipFill>
        <p:spPr>
          <a:xfrm>
            <a:off x="2057400" y="5638680"/>
            <a:ext cx="4851360" cy="3603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6E21-C3C0-4BCE-91B4-BB98FFA9A0E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102E-17FF-4F47-A1E0-2A221F91546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5"/>
          <p:cNvSpPr/>
          <p:nvPr/>
        </p:nvSpPr>
        <p:spPr>
          <a:xfrm>
            <a:off x="457200" y="173160"/>
            <a:ext cx="8458200" cy="70434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a *.dll or *.exe has been created using a .NET-aw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iler, the resulting module is bundled into an </a:t>
            </a: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assembly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d0d0d"/>
                </a:solidFill>
                <a:latin typeface="Tw Cen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 assembly contains CIL code, which is conceptuall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imilar to Java byte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addition to CIL instructions, assemblies also con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etadata that describes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haracteristics of every “type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iving within the  bin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685800" y="304920"/>
            <a:ext cx="1676520" cy="1752480"/>
          </a:xfrm>
          <a:prstGeom prst="rect">
            <a:avLst/>
          </a:prstGeom>
          <a:gradFill rotWithShape="0">
            <a:gsLst>
              <a:gs pos="0">
                <a:srgbClr val="775f55"/>
              </a:gs>
              <a:gs pos="100000">
                <a:srgbClr val="372c27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473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609480" y="22860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++, C#, Visual Basic or any .NET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2971800" y="227160"/>
            <a:ext cx="3545640" cy="2791440"/>
            <a:chOff x="2971800" y="227160"/>
            <a:chExt cx="3545640" cy="2791440"/>
          </a:xfrm>
        </p:grpSpPr>
        <p:sp>
          <p:nvSpPr>
            <p:cNvPr id="439" name="Text Box 5"/>
            <p:cNvSpPr/>
            <p:nvPr/>
          </p:nvSpPr>
          <p:spPr>
            <a:xfrm>
              <a:off x="3693960" y="2558880"/>
              <a:ext cx="282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sc.exe or Vbc.ex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6"/>
            <p:cNvGrpSpPr/>
            <p:nvPr/>
          </p:nvGrpSpPr>
          <p:grpSpPr>
            <a:xfrm>
              <a:off x="3812760" y="227160"/>
              <a:ext cx="1887480" cy="1838160"/>
              <a:chOff x="3812760" y="227160"/>
              <a:chExt cx="1887480" cy="1838160"/>
            </a:xfrm>
          </p:grpSpPr>
          <p:sp>
            <p:nvSpPr>
              <p:cNvPr id="441" name="Gear"/>
              <p:cNvSpPr/>
              <p:nvPr/>
            </p:nvSpPr>
            <p:spPr>
              <a:xfrm>
                <a:off x="4859280" y="227160"/>
                <a:ext cx="840960" cy="84276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AutoShape 8"/>
              <p:cNvSpPr/>
              <p:nvPr/>
            </p:nvSpPr>
            <p:spPr>
              <a:xfrm>
                <a:off x="3812760" y="574560"/>
                <a:ext cx="1005840" cy="10076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AutoShape 9"/>
              <p:cNvSpPr/>
              <p:nvPr/>
            </p:nvSpPr>
            <p:spPr>
              <a:xfrm>
                <a:off x="4465080" y="946080"/>
                <a:ext cx="1117800" cy="1119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0"/>
            <p:cNvSpPr/>
            <p:nvPr/>
          </p:nvSpPr>
          <p:spPr>
            <a:xfrm>
              <a:off x="4448520" y="2078640"/>
              <a:ext cx="109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1"/>
            <p:cNvSpPr/>
            <p:nvPr/>
          </p:nvSpPr>
          <p:spPr>
            <a:xfrm>
              <a:off x="2971800" y="1667160"/>
              <a:ext cx="981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2"/>
          <p:cNvGrpSpPr/>
          <p:nvPr/>
        </p:nvGrpSpPr>
        <p:grpSpPr>
          <a:xfrm>
            <a:off x="5791320" y="304920"/>
            <a:ext cx="3124080" cy="2820600"/>
            <a:chOff x="5791320" y="304920"/>
            <a:chExt cx="3124080" cy="2820600"/>
          </a:xfrm>
        </p:grpSpPr>
        <p:sp>
          <p:nvSpPr>
            <p:cNvPr id="447" name="Rectangle 13"/>
            <p:cNvSpPr/>
            <p:nvPr/>
          </p:nvSpPr>
          <p:spPr>
            <a:xfrm>
              <a:off x="6934320" y="304920"/>
              <a:ext cx="1905120" cy="2361960"/>
            </a:xfrm>
            <a:prstGeom prst="rect">
              <a:avLst/>
            </a:prstGeom>
            <a:gradFill rotWithShape="0">
              <a:gsLst>
                <a:gs pos="0">
                  <a:srgbClr val="775f55"/>
                </a:gs>
                <a:gs pos="100000">
                  <a:srgbClr val="372c27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4739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Assemb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14"/>
            <p:cNvSpPr/>
            <p:nvPr/>
          </p:nvSpPr>
          <p:spPr>
            <a:xfrm>
              <a:off x="6934320" y="27572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LL or EX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15"/>
            <p:cNvSpPr/>
            <p:nvPr/>
          </p:nvSpPr>
          <p:spPr>
            <a:xfrm>
              <a:off x="5791320" y="1142640"/>
              <a:ext cx="1066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"/>
          <p:cNvSpPr/>
          <p:nvPr/>
        </p:nvSpPr>
        <p:spPr>
          <a:xfrm>
            <a:off x="304920" y="781200"/>
            <a:ext cx="8458200" cy="45126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Understanding the Previous State of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efore examining the specifications of the .NET univers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t's helpful to consider some of the issues that motivate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genesis of this new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 we will turn our attention to the numerous benef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vided by C# and the .NET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304920" y="76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w Cen MT"/>
              </a:rPr>
              <a:t>The Philosophy of 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8BDA-6521-4C97-885B-E454F4955F6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Date Placeholder 6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A072-0A70-4A4D-A8B7-F35C33CCFF5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06D-D9C0-4D67-A7D3-F5DBD8416F5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294D-E468-4414-B7D4-93C649BAF3E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5"/>
          <p:cNvSpPr/>
          <p:nvPr/>
        </p:nvSpPr>
        <p:spPr>
          <a:xfrm>
            <a:off x="304920" y="173160"/>
            <a:ext cx="8458200" cy="31572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addition to CIL and type metadata, assembl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mselves are also described using metadata, which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ermed a </a:t>
            </a: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manifest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Tw Cen MT"/>
              </a:rPr>
              <a:t>manifest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contains information about the curren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er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f the assembly, culture information and a list of 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xternally referenced assemblies that are required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per exec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9452-1525-4FBE-B0B2-1DB3F5D93C0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3DB4-7CBB-4AB0-B55D-7F3C503A000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"/>
          <p:cNvSpPr/>
          <p:nvPr/>
        </p:nvSpPr>
        <p:spPr>
          <a:xfrm>
            <a:off x="304920" y="173160"/>
            <a:ext cx="8458200" cy="65242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Single-File and Multifile Assemb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many cases, there is a simple one-to-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rrespondence between a .NET assembly and the bina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ile (*.dll or *.ex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are building a .NET *.dll,  then the binary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 are one and the sa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are building an executable desktop application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*.exe can simply be referred to as the assembly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t, if an assembly is composed of a single  *.dll or *.ex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odule, you have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ingle-file assem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ingle-file assemblies contain all the necessary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L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tadata, and associated manifest in an autonomou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ingle, well-defined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4"/>
          <p:cNvSpPr/>
          <p:nvPr/>
        </p:nvSpPr>
        <p:spPr>
          <a:xfrm>
            <a:off x="228600" y="0"/>
            <a:ext cx="8763120" cy="94348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ultifile assembli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on the other hand, are composed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umerous .NET binaries, each of which is termed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building a multifile assembly, one of these modu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ust contain the assembly manif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y would we choose to create a multifile assemb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you partition an assembly into discrete modules,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d up with a more flexible deployment op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if a user is referencing a remote assembly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eeds to be downloaded, the runtime will only downloa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quired mod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fore, we are free to construct our  assembly in such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ay that less frequently required types  are kept in a sepa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tand-alone mo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all types were placed in a single-file assembly, the e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ser may end up downloading a large chunk of data tha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ot really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92A-A771-42FD-88AF-BF859CBAF3D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3064-46C9-4EB1-A4F1-E7BC5D4CBFE1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5"/>
          <p:cNvSpPr/>
          <p:nvPr/>
        </p:nvSpPr>
        <p:spPr>
          <a:xfrm>
            <a:off x="304920" y="173160"/>
            <a:ext cx="8458200" cy="2684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the Common Intermediate Languag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L is a language that sits above any particular platform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pecific instruction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gardless of which .NET-aware language we  choos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associated compiler emits CIL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5"/>
          <p:cNvSpPr/>
          <p:nvPr/>
        </p:nvSpPr>
        <p:spPr>
          <a:xfrm>
            <a:off x="228600" y="76320"/>
            <a:ext cx="8458200" cy="6616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Calc.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using Sys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namespace Calculator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This class contains the app's entry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class Calc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static void Mai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alc c = new Calc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int ans = c.Add(10, 8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.WriteLine("10 + 84 is {0}.", an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Wait for user to press the Enter key before shutting d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Console.ReadLin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// The C# calcul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class Ca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public int Add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{ return x + y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228600" y="142920"/>
            <a:ext cx="8686800" cy="6951240"/>
          </a:xfrm>
          <a:prstGeom prst="rect">
            <a:avLst/>
          </a:prstGeom>
          <a:solidFill>
            <a:srgbClr val="ebddc3"/>
          </a:solidFill>
          <a:ln w="0">
            <a:noFill/>
          </a:ln>
          <a:effectLst>
            <a:outerShdw dist="17819" dir="2700000" blurRad="0" rotWithShape="0">
              <a:srgbClr val="8d85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ce the C# compiler (csc.exe) compiles this source cod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we end up with a   single-file *.exe assembly that contains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anifest, CIL instructions, and metadata describing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aspect of the Calc and CalcApp clas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we open this assembly using ildasm.exe, we find that the Add() method is represented using CIL such as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704404"/>
                </a:solidFill>
                <a:latin typeface="Arial"/>
              </a:rPr>
              <a:t>.</a:t>
            </a:r>
            <a:r>
              <a:rPr b="1" sz="1800" spc="-1" strike="noStrike">
                <a:solidFill>
                  <a:srgbClr val="704404"/>
                </a:solidFill>
                <a:latin typeface="Arial"/>
              </a:rPr>
              <a:t>method public hidebysig instance int32 Add(int32 x, int32 y) cil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// Code size 8 (0x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.maxstack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.locals init ([0] int32 CS$1$0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0: ldarg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1: ldarg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2: 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3: stloc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4: br.s IL_0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6: ldloc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IL_0007: 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04404"/>
                </a:solidFill>
                <a:latin typeface="Arial"/>
              </a:rPr>
              <a:t>} // end of method Calc::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Box 5"/>
          <p:cNvSpPr/>
          <p:nvPr/>
        </p:nvSpPr>
        <p:spPr>
          <a:xfrm>
            <a:off x="304920" y="173160"/>
            <a:ext cx="8610480" cy="46652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Benefits of C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ight be wondering exactly what is gained by compil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ource code into CIL rather than directly to a 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struction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benefit is language integration, that is each .NET-a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iler produces nearly identical CIL instru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fore, all languages are able to interact within a well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fined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481-3616-43C8-B820-7BC2C33B78B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3CCE-AF08-4299-B780-95B6C630C02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5"/>
          <p:cNvSpPr/>
          <p:nvPr/>
        </p:nvSpPr>
        <p:spPr>
          <a:xfrm>
            <a:off x="228600" y="152280"/>
            <a:ext cx="8763120" cy="84600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Compiling CIL to Platform-Specific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entity that compiles CIL code into meaningful CP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structions is termed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just-in-time (JIT) compiler, (Jitt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if we are building a .NET application that i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e deployed to a handheld device (such as a Pocket PC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corresponding Jitter is well equipped to run within a l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emory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given Jitter compiles CIL instructions into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chine code, it will cache the results in memory in a mann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ited to the target operating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, if a call is made to a method named PrintDocument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CIL instructions are compiled into platform specif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structions on the first invocation and retained in memory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ater u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fore, the next time PrintDocument() is called, there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o need to recompile the 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DD7C-9DD7-4DD9-BAC1-E2B869493DB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Date Placeholder 4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6069-EFAF-4CFD-9136-7AC5BB85FF0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152280" y="152280"/>
            <a:ext cx="8686800" cy="40863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.NET Type Meta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adata is used by numerous aspects of the .NET run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vironment, as well as by various development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adata is also used by various object browsing utiliti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bugging tools, and the C# compiler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tadata is the backbone of numerous .NET technolog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cluding remoting, late binding, XML we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ervices, and object serial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7"/>
          <p:cNvSpPr/>
          <p:nvPr/>
        </p:nvSpPr>
        <p:spPr>
          <a:xfrm>
            <a:off x="214200" y="3807000"/>
            <a:ext cx="8763120" cy="211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6d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 Serialization is a process through which an object'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tate is transformed into some serial data format, such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XML or binary format, in order to be stored for some late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words, the object is "dehydrated" and put away unt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we need to use it ag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DDEF-DC33-442C-8F79-235DB36421C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C7B0-2F82-469B-BE8C-3184D219DC9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4"/>
          <p:cNvSpPr/>
          <p:nvPr/>
        </p:nvSpPr>
        <p:spPr>
          <a:xfrm>
            <a:off x="152280" y="173160"/>
            <a:ext cx="8763120" cy="37206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The Role of the Assembly Manif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NET assembly also contains metadata that describe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 itself (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manifes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manifest documents, all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ternal assemblies requir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y the current assembly to function correctly,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’s version number, copyright information, and 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ike type metadata, it is always the job of the compiler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generate the assembly’s manif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1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B582-DF4E-4961-A958-E39978B3320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"/>
          <p:cNvSpPr/>
          <p:nvPr/>
        </p:nvSpPr>
        <p:spPr>
          <a:xfrm>
            <a:off x="304920" y="152280"/>
            <a:ext cx="8534160" cy="8200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C/Win32 API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 programming language was used to develop the softwa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eeded to run on the windows OS in conjunction with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application programming interface (API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first obvious problem is that C is a very terse(clea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anguage. C developers included the  manual memo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nagement, ugly pointer arithmetic, and ugly syntactic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str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 is a structured language, it lacks the benefits provided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object-oriented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you combine the thousands of global function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ata types defined by the raw Win32 API to an alread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midable language, it is little wonder that there are so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ny buggy applications floating around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967B-1B75-4DEB-A6B7-C34F1957151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Box 4"/>
          <p:cNvSpPr/>
          <p:nvPr/>
        </p:nvSpPr>
        <p:spPr>
          <a:xfrm>
            <a:off x="152280" y="173160"/>
            <a:ext cx="8763120" cy="60969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Understanding the Common Typ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given assembly may contain any number of distin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“types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the world of .NET, “type” is simply a generic term used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fer to a member from the set {class, structure, interfac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umeration, delegate}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en we build solutions using a .NET-aware languag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e will most likely interact with each of these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our assembly may define a single class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mplements some number of interfa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w Cen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n one of the interface methods takes an enum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ype as an input parameter and returns a structure to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al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245B-A4F6-4C1D-8E52-C60973A1E1E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677-8769-466B-81BB-4C3DC432A8C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4"/>
          <p:cNvSpPr/>
          <p:nvPr/>
        </p:nvSpPr>
        <p:spPr>
          <a:xfrm>
            <a:off x="304920" y="173160"/>
            <a:ext cx="8458200" cy="67975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Five types are defined by  the 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Class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very .NET-aware language supports,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lass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class may be composed of any number of memb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such as properties, methods, and events) and data poi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field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C#, classes are declared using the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key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800" spc="-1" strike="noStrike">
                <a:solidFill>
                  <a:srgbClr val="ff0000"/>
                </a:solidFill>
                <a:latin typeface="Tw Cen MT"/>
              </a:rPr>
              <a:t>class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C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  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public int Add(int x, int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   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return x + 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   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5731-5241-4D53-9085-2E0B6E2301C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2C7C-3F13-4301-B51A-73C999361C3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4"/>
          <p:cNvSpPr/>
          <p:nvPr/>
        </p:nvSpPr>
        <p:spPr>
          <a:xfrm>
            <a:off x="304920" y="173160"/>
            <a:ext cx="8458200" cy="4597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TS Class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04920" y="914400"/>
          <a:ext cx="8458200" cy="2971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 Characteris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aning in Li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s the class “sealed” or no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aled classes cannot function as a base class to other class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oes the class implement any interfac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he CTS allows a class to implement any number of interfa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s the class abstract or concret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bstract classes cannot be directly created,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ncret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asses can be created directl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is the “visibility” of this clas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ach class must be configured with a visibility attribu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E55-5A88-4F96-A2E0-EC8104C0F58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206E-6508-4A42-9799-94B14D5CCC9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4"/>
          <p:cNvSpPr/>
          <p:nvPr/>
        </p:nvSpPr>
        <p:spPr>
          <a:xfrm>
            <a:off x="228600" y="141120"/>
            <a:ext cx="8686800" cy="64792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Structur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tructure can be thought of as a lightweigh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ass typ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ving value-based seman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tructures are best suited for modeling geometric and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thematical data, and are created in C# using the stru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A C# structure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w Cen MT"/>
              </a:rPr>
              <a:t>struct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Structures can contain fiel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int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 xPos, yP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Structures can contain parameterized constru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fr-FR" sz="18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fr-FR" sz="1800" spc="-1" strike="noStrike">
                <a:solidFill>
                  <a:srgbClr val="ff0000"/>
                </a:solidFill>
                <a:latin typeface="Tw Cen MT"/>
              </a:rPr>
              <a:t>Point</a:t>
            </a:r>
            <a:r>
              <a:rPr b="0" lang="fr-FR" sz="1800" spc="-1" strike="noStrike">
                <a:solidFill>
                  <a:srgbClr val="7b3d17"/>
                </a:solidFill>
                <a:latin typeface="Tw Cen MT"/>
              </a:rPr>
              <a:t>(int x, int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{ xPos = x; yPos = y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7b3d17"/>
                </a:solidFill>
                <a:latin typeface="Tw Cen MT"/>
              </a:rPr>
              <a:t>// Structures may define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public void </a:t>
            </a:r>
            <a:r>
              <a:rPr b="0" lang="en-US" sz="1800" spc="-1" strike="noStrike">
                <a:solidFill>
                  <a:srgbClr val="ff0000"/>
                </a:solidFill>
                <a:latin typeface="Tw Cen MT"/>
              </a:rPr>
              <a:t>Displa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Console.WriteLine("({0}, {1}", xPos, yPo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7496-232F-4D6F-A77F-C348F0437EC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CB02-01F7-4464-9705-61C82A860A25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4"/>
          <p:cNvSpPr/>
          <p:nvPr/>
        </p:nvSpPr>
        <p:spPr>
          <a:xfrm>
            <a:off x="304920" y="152280"/>
            <a:ext cx="8458200" cy="4330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Interfac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Interfaces are collection of abstract member definition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which may be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lemented by a given class or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C#, interface types are defined using the interf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keyword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// A C# interfac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interface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 ID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void Draw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EB90-973E-4549-A1D3-9A2BA4793E0D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5881-F25B-4409-B99C-F716FAD3AF2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"/>
          <p:cNvSpPr/>
          <p:nvPr/>
        </p:nvSpPr>
        <p:spPr>
          <a:xfrm>
            <a:off x="304920" y="152280"/>
            <a:ext cx="8458200" cy="69364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Enumeratio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Enumerations are a handy programming construct tha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allows you to group name/value pai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ample, assume in a video-game appl. that allow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layer to select one of 3 character categories (Wizar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ighter, or Thie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ther than keeping track of raw numerical values 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present each possibility, you could build a cust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numeration using the enum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enum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 Character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Wizard = 1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Fighter = 2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y default, the storage used to hold each item is a 32-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ger; however, it is possible to alter this storage slot i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3854-B307-45E4-950E-FF20E133FD8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1935-609A-4EA4-974D-9729157B57B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4"/>
          <p:cNvSpPr/>
          <p:nvPr/>
        </p:nvSpPr>
        <p:spPr>
          <a:xfrm>
            <a:off x="304920" y="152280"/>
            <a:ext cx="8458200" cy="6829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Delegat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Delegates are the .NET equivalent of a  C-style function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poin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he key difference is that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.NET delegate is 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class that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derives from System.MulticastDelegate,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ather than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imple pointer to a raw memory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 C#, delegates are declared using the delegate keyw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2000" spc="-1" strike="noStrike">
                <a:solidFill>
                  <a:srgbClr val="7b3d17"/>
                </a:solidFill>
                <a:latin typeface="Tw Cen MT"/>
              </a:rPr>
              <a:t>// This C# delegate type can 'point to' any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3d17"/>
                </a:solidFill>
                <a:latin typeface="Tw Cen MT"/>
              </a:rPr>
              <a:t>// returning an integer and taking two integers as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public </a:t>
            </a:r>
            <a:r>
              <a:rPr b="0" lang="en-US" sz="2000" spc="-1" strike="noStrike">
                <a:solidFill>
                  <a:srgbClr val="ff0000"/>
                </a:solidFill>
                <a:latin typeface="Tw Cen MT"/>
              </a:rPr>
              <a:t>delegate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 int BinaryOp(int x, in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legates are useful when you wish to provide a way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ne entity to forward a call to another entity, and provi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foundation for the .NET event archit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572A-B041-4A9C-B477-C8CED6BF292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3CFF-FB97-4CD0-8879-F20F143B4DE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304920" y="152280"/>
            <a:ext cx="8458200" cy="20444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CTS Type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type member is constrained by the set {constructor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nalizer, static constructor, nested type, operator, method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perty, indexer, field, read only field, constant, event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Date Placeholder 1"/>
          <p:cNvSpPr/>
          <p:nvPr/>
        </p:nvSpPr>
        <p:spPr>
          <a:xfrm>
            <a:off x="6095880" y="640080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05B0-5561-44A9-9FC0-6E67D4FE60E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5F6E-7C65-4C5A-8283-55FA85029C9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"/>
          <p:cNvSpPr/>
          <p:nvPr/>
        </p:nvSpPr>
        <p:spPr>
          <a:xfrm>
            <a:off x="304920" y="76320"/>
            <a:ext cx="8458200" cy="13129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trinsic CTS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TS defines a well-defined set of core data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TS data types are expressed in various .NET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"/>
          <p:cNvPicPr/>
          <p:nvPr/>
        </p:nvPicPr>
        <p:blipFill>
          <a:blip r:embed="rId1"/>
          <a:stretch/>
        </p:blipFill>
        <p:spPr>
          <a:xfrm>
            <a:off x="571680" y="1552680"/>
            <a:ext cx="7999200" cy="4848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A16B-D3AD-4E46-B620-D539396B1C1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F3C7-F843-4483-A304-2B1BF1DDEAC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4"/>
          <p:cNvSpPr/>
          <p:nvPr/>
        </p:nvSpPr>
        <p:spPr>
          <a:xfrm>
            <a:off x="304920" y="217440"/>
            <a:ext cx="8458200" cy="4817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Understanding the Common Languag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CLS is a set of rules that describe the minimal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plete set of features a given .NET-aware compiler mu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upport to produce code that can be hosted by the CL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d also the code need to be accessed in a unifor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manner by all languages that target the .NET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ach rule is assigned a simple name and describes h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is rule affects those who build the compilers as well 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ose who interact wit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AEBA-7C45-4EE5-BA8D-E6418FF2D58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380880" y="228600"/>
            <a:ext cx="8458200" cy="85813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C++/MFC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’s a development over c language. In many ways, C++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an be thought of as an object-oriented 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layer on top of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ough C++ programmers benefit from the O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encapsulation, inheritance, and polymorphism), they 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till at the mercy of the painful aspects of the C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manual memory management, ugly pointer arithmetic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ugly syntactical  construc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pite its complexity, many C++ frameworks exist tod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or example, the Microsoft Foundation Classes (MFC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vides the developer with a set of existing C++ cla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facilitate the construction of Windows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gardless of the helpful assistance offered by the MF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amework , C++ programming remains a difficult and error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ne experienc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BF8F-BC2F-4A23-834E-BDF83355816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AC4A-1AF9-4653-A9CB-D01828B178D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DE3F-9FA2-4D8E-ADF8-41E5A79F9EE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4"/>
          <p:cNvSpPr/>
          <p:nvPr/>
        </p:nvSpPr>
        <p:spPr>
          <a:xfrm>
            <a:off x="304920" y="217440"/>
            <a:ext cx="8458200" cy="40255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Ensuring CLS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# define a number of programming constructs that are n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LS-compli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t we can instruct the C# compiler to check the cod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LS compliance using a single .NET attrib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// Tell the C# compiler to check for CLS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[assembly: System.CLSCompliant(true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69A5-733B-416D-8556-EC619809C21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8DB2-CEAF-4054-8BE8-A61E695CF99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"/>
          <p:cNvSpPr/>
          <p:nvPr/>
        </p:nvSpPr>
        <p:spPr>
          <a:xfrm>
            <a:off x="304920" y="217440"/>
            <a:ext cx="8458200" cy="9471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Understanding the Common Language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8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114800" cy="63262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9"/>
          <p:cNvSpPr/>
          <p:nvPr/>
        </p:nvSpPr>
        <p:spPr>
          <a:xfrm>
            <a:off x="4648320" y="304920"/>
            <a:ext cx="4190760" cy="59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96d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n assembly is referenc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or use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scoree.d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oa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utomatically, which in turn loa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required assembly in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ntime engine is respon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or a number of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and foremost, it is the ent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n charge of resolving the lo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of an assembly and finding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requested type within the bin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by reading the contain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eta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R then lays out the type 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memory, compiles the associa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IL into platform-specif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nstructions, performs 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necessary security checks,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n executes the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3BFB-EDB0-45E3-A452-28C5C8FBFB5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4712-5535-438F-8405-4B63C774B23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"/>
          <p:cNvSpPr/>
          <p:nvPr/>
        </p:nvSpPr>
        <p:spPr>
          <a:xfrm>
            <a:off x="304920" y="217440"/>
            <a:ext cx="8458200" cy="71506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A Tour of the .NET Name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namespace is a grouping of related types contained in 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em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the System.IO namespace contains file I/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elated types, the System.Data namespace defines bas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atabase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single assembly can contain any number of namespac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ach of which can contain any number of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b3d1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3d17"/>
                </a:solidFill>
                <a:latin typeface="Tw Cen MT"/>
              </a:rPr>
              <a:t>// Hello world in C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using Sys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public class My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static void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Console.WriteLine("Hi from C#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E279-1287-44F9-A15D-B6EFE40AF11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C51-BE1A-4EE1-A192-A62D009DC47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304920" y="217440"/>
            <a:ext cx="8458200" cy="59461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' Hello world in VB 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Import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Public Module My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Sub 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Console.WriteLine("Hi from VB .NET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End S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En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3d17"/>
                </a:solidFill>
                <a:latin typeface="Tw Cen MT"/>
              </a:rPr>
              <a:t>// Hello world in Managed Extensions for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#include "stdafx.h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using namespace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int main(array&lt;System::String ^&gt; ^ar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Console::WriteLine(L"Hi from managed C++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3d17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6EAE-68B2-4F8B-9206-2F117B33E80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E04-A8D9-4F36-977A-21248E0EE81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610480" cy="5238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6E71-EF36-4296-AC77-B8C43E5A1A2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77EA-0DC0-48E9-BE83-F535E5CA0DA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7" descr=""/>
          <p:cNvPicPr/>
          <p:nvPr/>
        </p:nvPicPr>
        <p:blipFill>
          <a:blip r:embed="rId1"/>
          <a:stretch/>
        </p:blipFill>
        <p:spPr>
          <a:xfrm>
            <a:off x="228600" y="128520"/>
            <a:ext cx="8534520" cy="6424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A4FE-EF07-41C6-9756-D63C25E7BC1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80CC-07FF-4088-A175-50D76B21F51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4"/>
          <p:cNvSpPr/>
          <p:nvPr/>
        </p:nvSpPr>
        <p:spPr>
          <a:xfrm>
            <a:off x="304920" y="217440"/>
            <a:ext cx="8458200" cy="564084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Accessing a Namespace Program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sider the System namespace,  here the runtime eng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nly sees a single entity named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System.Cons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b3d17"/>
                </a:solidFill>
                <a:latin typeface="Tw Cen M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// Some the namespaces used to build th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;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eneral base class library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Drawing;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raphical rendering typ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Windows.Forms;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UI widget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Data;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General data-centric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System.Data.SqlClient;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// MS SQL Server data access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49BE-CFD3-4996-9D8B-9D0C82B32A5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521B-CA6A-4676-B12B-4B3898A7DFB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4"/>
          <p:cNvSpPr/>
          <p:nvPr/>
        </p:nvSpPr>
        <p:spPr>
          <a:xfrm>
            <a:off x="304920" y="217440"/>
            <a:ext cx="8458200" cy="44830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// Explicitly list the namespaces used by this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using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using System.Draw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class My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public void DisplayLog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// Create a 20_20 pixel bit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Bitmap companyLogo = new Bitmap(20, 2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660B-A205-412A-8359-A751C36322A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883A-2FD3-4B07-9459-EB34E6AD5408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"/>
          <p:cNvSpPr/>
          <p:nvPr/>
        </p:nvSpPr>
        <p:spPr>
          <a:xfrm>
            <a:off x="304920" y="217440"/>
            <a:ext cx="8458200" cy="44830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// Not listing System.Drawing namesp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using Syst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class My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public void DisplayLog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594740"/>
                </a:solidFill>
                <a:latin typeface="Tw Cen MT"/>
              </a:rPr>
              <a:t>// Using fully qualified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System.Drawing.Bitmap companyLogo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new System.Drawing.Bitmap(20, 2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4740"/>
                </a:solidFill>
                <a:latin typeface="Tw Cen MT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BEFB-3CD0-4C3A-9857-F715DABB6A2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01A6-BC57-41C2-861C-A1E8F3A3D651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4"/>
          <p:cNvSpPr/>
          <p:nvPr/>
        </p:nvSpPr>
        <p:spPr>
          <a:xfrm>
            <a:off x="304920" y="217440"/>
            <a:ext cx="8458200" cy="41778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Referencing External Assemb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ong with specifying a namespace, we also need to tell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# compiler the name of the assembly which contains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tual CIL definition for the referenced ty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y core .NET namespaces live within mscorlib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While using the System.Drawing.Bitmap type, it 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tained within separate assembly nam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ystem.Drawing.d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E2CD-DFB8-4F2F-A0FB-5663649A26B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380880" y="119160"/>
            <a:ext cx="8458200" cy="78807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Visual Basic 6.0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ue to the simplicity, many programmers have shifted aw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om the world of C(++)-based frameworks to kinder, gentl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anguages such as Visual Basic 6.0 (VB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is popular due to its ability to build complex us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rfaces, code libraries (e.g., COM servers), and dat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cess logic with minimal diffic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hides the complexities of the raw Win32 API from u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 number of integrated code Wizards, intrinsic data typ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lasses, and VB-centri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major downfall of VB is that it is not a fully object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riented language, but rather "object  awar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6.0 does not support for parameterized cla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struction. </a:t>
            </a:r>
            <a:br>
              <a:rPr sz="2400"/>
            </a:br>
            <a:r>
              <a:rPr b="0" lang="en-US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B 6.0 does not support for multithreaded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120C-91AB-43A4-84E5-D80DD1C5D74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0FB3-CE0F-4533-B5AE-B7A827563E9E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1D4-9F90-4DF3-851F-778D2AE376C7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4"/>
          <p:cNvSpPr/>
          <p:nvPr/>
        </p:nvSpPr>
        <p:spPr>
          <a:xfrm>
            <a:off x="304920" y="217440"/>
            <a:ext cx="8458200" cy="66463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Increasing Your Namespace Nomenc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l namespace types are semantical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 you want to design a simple console application,  forg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ll about the System.Windows.Forms  and System.We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amesp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you are building a painting application, the databas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amespaces are most likely of little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Intermediate Language Disassembler ut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(ildasm.exe) allows us to load any .NET assembly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heck its contents, including the associated manifest, C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de, and type meta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y default, ildasm.exe should be installed un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:\Program Files\Microsoft Visual Studio 8\SDK\v2.0\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66B0-0703-43C3-B116-40B520E58EA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FD54-749D-4F31-B574-F7CA5C51266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4"/>
          <p:cNvSpPr/>
          <p:nvPr/>
        </p:nvSpPr>
        <p:spPr>
          <a:xfrm>
            <a:off x="304920" y="217440"/>
            <a:ext cx="8458200" cy="655488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Deploying the .NET Run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NET assemblies can be executed only on a machine th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has the .NET Framework instal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you deploy an assembly to a computer that does not ha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.NET installed, it will fail to r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crosoft provides a setup package named dotnetfx.ex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can be freely shipped and installed along with y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ustom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s installation program is included with the .N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amework 2.0 SDK, and it is also freely downloadab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from Micro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ce dotnetfx.exe is installed, the machine will now cont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.NET base class libraries, .NET runtime (mscoree.dll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additional .NE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Date Placeholder 1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C17A-9B6C-4354-AA34-287E8FF71CE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BD27-ADCB-4949-A326-25726ADBE9E0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4"/>
          <p:cNvSpPr/>
          <p:nvPr/>
        </p:nvSpPr>
        <p:spPr>
          <a:xfrm>
            <a:off x="304920" y="217440"/>
            <a:ext cx="8458200" cy="56257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Running .NET on Non-Microsoft 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n be implemented with the help of Common Langu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frastructure (CL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IL is the ECMA(European Computer Manufactur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ssociation) standard that describes the core libraries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.NET univer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icrosoft has released an open-source implementation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e CLI (The Shared Source CLI) which can be compiled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Windows XP, FreeBSD Unix as well as the Macintosh (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X and high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2"/>
          <p:cNvSpPr/>
          <p:nvPr/>
        </p:nvSpPr>
        <p:spPr>
          <a:xfrm>
            <a:off x="609480" y="641664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0" y="640080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1876-9C02-496E-9FAD-0D27D77000D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380880" y="228600"/>
            <a:ext cx="8458200" cy="693612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Java/J2EE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Java programming language is completel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riented and has its syntactic roots in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ava provides programmers with a large number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edefined "packages" that contain various clas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terface  defin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these types, Java programmers are able to buil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"100% Pure Java“ applications complete with databa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nnectivity, messaging support, Web-enabled front end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d a rich-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ne potential problem is that using Java typically me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hat you must use Java front-to-back during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development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ure Java is simply not appropriate for many graphically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numerically intensive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633F-A897-4C3B-974F-231E95BA7E6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06FA-24AC-4209-B738-2439A29F438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80880" y="228600"/>
            <a:ext cx="8458200" cy="26082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if you are building a graphics intens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duct (such as a 3D-rendered video game), you will fi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Java's execution speed is s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better approach for such programs would be to use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lower- level language such as C++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0ADF-C218-47EF-9E38-303F43E3353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824-FBB0-40C6-850B-D89CAC0ABFE4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380880" y="228600"/>
            <a:ext cx="8458200" cy="846036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Life As a COM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M, Microsoft’s (Component Object Model) is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rchitecture that says, "If you build your classe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cordance with the rules of COM, you end up with a bloc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of </a:t>
            </a: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reusable binary code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beauty of a binary COM server is that it can b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ccessed in a language-independent mann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us, C++ programmers can build COM classes that c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e used by VB. Delphi programmers can use COM cla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built using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nother benefit of COM is its location-transparent na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sing constructs such as application identifiers (AppIDs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stubs, proxies, and the COM runtime environmen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programmers can avoid the need to work with raw socket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RPC calls, and other  lowlevel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9165-7A43-4610-A6C0-99D827E9ADAC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GR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D65F-2112-4B9C-9BF0-5E7626A42792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4"/>
          <p:cNvSpPr/>
          <p:nvPr/>
        </p:nvSpPr>
        <p:spPr>
          <a:xfrm>
            <a:off x="380880" y="228600"/>
            <a:ext cx="8458200" cy="5641200"/>
          </a:xfrm>
          <a:prstGeom prst="rect">
            <a:avLst/>
          </a:prstGeom>
          <a:solidFill>
            <a:srgbClr val="bcbcbc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lthough COM is a very dominant object model, it i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extremely compl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o simplify the development of COM binaries, numero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COM-aware frameworks have come into exis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r example, the Active Template Library (ATL) prov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another set of C++ -based classes, templates, and macr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to ease the creation of classic COM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ny other languages also hide a good part of the C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nfrastructure from view. However, language support al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is not enough to hide the complexity of classic CO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ate Placeholder 5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2F72-F910-4102-BBE8-7C64451564E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7:29:13Z</dcterms:created>
  <dc:creator>Hemanth</dc:creator>
  <dc:description/>
  <dc:language>en-US</dc:language>
  <cp:lastModifiedBy>mca</cp:lastModifiedBy>
  <dcterms:modified xsi:type="dcterms:W3CDTF">2012-08-10T07:20:15Z</dcterms:modified>
  <cp:revision>309</cp:revision>
  <dc:subject/>
  <dc:title>Topics in Enterprise Architecture - 2</dc:title>
</cp:coreProperties>
</file>